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422-5E5B-437D-9CC1-2E4AC371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595-3A47-4854-B56C-D9573C59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093EE-B334-4C0D-819F-CB45804B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48753-DB62-42E0-AB17-D8E9F50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719A6-0762-4DB1-A545-3D7F16F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76A87-AAF6-48ED-89C3-F94E021A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ADFB4-ED0E-4F7D-8397-F1B13CD4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DF728-ACF0-447D-A883-F543AD8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2C273-9253-4D9A-8D35-C09B82E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8A7C4-8915-4E99-AE07-A519B720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AC14A-41A8-4158-8823-4E4C9DAB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BD0CF-D5E2-45D9-A712-6647298E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CD9-B6D3-463A-A531-F8BBE7BF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AB3A3-15D9-4E2D-80BE-D447B480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2A761-9E67-474B-A98E-5AE7F45E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EABAF-BB5C-4A13-BCE5-C2DAFD67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44C1A-82D8-4C6E-AD28-8AD27FF1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DF718-AE51-430D-AAA8-AF70005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E289A-0F4D-4D2A-B5D4-0C507EA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216C0-E469-4CCC-B3D1-87A00F99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CA78B-E59E-430C-AD5C-84A18C7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4353B-FAC1-4FD6-A7EA-489F7584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1B93B-800C-4377-8106-98AD343F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30A-D035-43C3-86F1-88BF6C20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D18A3-F406-41CA-BBD7-2C1E7010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17042-2380-467D-AAFD-C240CD70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622F4-9CC2-4CA7-83EA-35197687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BA759-1F14-4FCF-9108-E0445947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577A2-9080-4CD4-B431-1AEADA4F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55AF7-835C-4A22-8B8D-688669A1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38F3D-6032-4F12-AC89-0F893BE3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D1E0-B537-4269-AD4B-31EB99E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6EEF5-4D0F-472D-A351-57D7D6C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1A887-A0EF-4B1E-80F0-CC042E4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35AB-91AD-4959-9958-0E75926C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FE721-EA51-4CF3-B419-8F99D4CA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E94CC-4CCE-41B9-BFA1-E1F73C40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7743E-2A73-4168-AC4B-6996C694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0C2F9-EE2F-4470-98CF-9BB7089F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44857-9AA0-46E1-8219-25E05092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1C36E-327F-4EE5-980C-175BECFA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F98C0-CE76-4CD1-AEA8-256B3E63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B7027-9259-42E5-8B9F-F2AF34EE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41A33-9B1C-4E11-937F-9E22C1C7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95D80-EA23-4BB7-8F48-2330971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A30-EAD2-4716-901A-E39B2B53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9EF24-AF51-4CB0-A473-D9FF3A6D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BF1A6-C0FB-4E0D-BDDF-D90B936C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95C73-0DC6-4B18-95B6-52AE30D4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E432A-37F6-43B5-A067-FF98AC5E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56DF9-F891-496C-8C50-E749B6E3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F9988-460E-44D9-9381-6D433985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B3F39-5CF8-45E8-B634-7EDED114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803ED-CF26-436B-8C9B-25BF5A32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1C1B4-9188-4C49-9019-4F4E516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E29F8-B76D-437B-BBA6-7C481C3E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11CF-3FD9-4AB6-94CA-FFF0402A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6BC07-5F67-45A1-AD5D-09B93ACF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B83D1-4525-4B32-BE4E-BA69A206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586BA-8A32-4730-AE94-428DDBC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1AFCB-FC26-4595-9ABD-850DF26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1BAD5-B1E1-4DB3-B1EC-DC4FEB21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5D650-B119-4AF8-B61A-F161DC45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A947A-58B1-407B-973F-E64D1B24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D045C-81FE-4200-A101-E24CFD21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A9BF3-5C6A-45CB-906A-6FF03D2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67A2E-3E23-4842-89D5-CEC74CB8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0EC7-26DA-4BEF-9ECB-DE6A866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51D91-99F2-40AF-8DA0-EF8637E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210B4-264E-466B-96E5-E253ED89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B3B59-9D30-42F9-AA98-51D39032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DC311-F588-4032-8D00-BE8703D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0645C-0319-4B43-B487-8F00356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916EE-BD24-4CDA-AAA4-CDED4071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A8ED8-04FD-4B37-AC86-165E0A3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861AF-127F-47C5-A4AB-BD76941B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D0C5B-CC79-45AE-939A-04845A8B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C08DA-046D-4403-A15D-FAFE421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F8F2-5614-424F-A399-B0C239F1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80181-3784-49C9-9B7F-B457DE5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D68F8-8F29-40C6-A427-B8734164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0E2DF-EB58-48C6-A479-E93C1C52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39ADD-9A63-4712-A114-3D80042C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87A7D-D321-4FA8-AAF4-7C988AC1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41F1D-4A82-444D-B05F-788DA31D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0E84C-B729-4FFB-A53E-37DD0A00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42868-A709-4C59-B7C2-73E6F8F9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2345F-9FBF-4C0F-9A53-1B40200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8097F-34D8-41A8-9D60-9B85587D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74B4-F69D-4C0B-9ED5-B4F11149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45169-D0BE-45C6-9630-24D05D38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8F4A7-5660-420C-8A8E-077F689A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CF25E-6114-4AAB-8C04-E831616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23F8F-BF40-4576-A358-7D005B87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02BF6-CDFA-421A-A114-7B8E04E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1DFB2-B468-48BB-AB43-A97B1457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507C1-03B9-4CF1-8B13-2250C247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7E2CB-DF9A-427B-8AA2-F10C7502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9F150-35C2-49E6-A8CB-D1D8496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1DF37-A8A5-4385-9E82-C2B9107C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3833-331D-4A68-8E6D-E3C4D26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54538-D161-40D1-8B5D-6243B91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46D23-516A-4E55-89FA-20485F55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C4204-78FC-415D-8EAF-2BB25338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02F44-CFFA-4000-B196-8DA1B240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5BE46-5C3D-4ABE-A4CF-9C17928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02E0D-434D-49F5-870D-81E9157D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E63E2-B57B-474D-9986-078F4A72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1B17C-1C4A-4BEF-93E6-C7B2DDCC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B95A1-342B-4F1D-82A6-2EEBD418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13DF0-FD59-4342-8311-47468A6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0FB-A80A-46D1-96B1-8BBE5FA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FBC-D4E4-4B39-9B29-70DC83E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09229-16A1-465E-8F92-C9EC809F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FF5C5-3354-4509-92FD-711D94F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5FB30-51AD-45F5-AF63-C5218364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C5AE6-D440-4D97-94E1-DFF535EB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9F770-3497-4B6A-9438-E8DAA433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09396-2C97-49D6-87D5-635E41CE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CDB81-AC0A-418F-B83C-9DD1D8E1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12818-7384-49DB-8A64-4438C67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59BB5-43D8-42CC-A4DF-738ECC2E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D84FB-3733-4F55-8911-C748A2F1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241-BBA8-46D2-9459-E8325B1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78D57-B6C3-4E4E-85F5-208CF265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36F7C-B80D-4698-ACCA-0663D2A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8BC42-A95B-4DC6-A57C-FF720F2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52CE3-9C72-4F49-BCA5-38262A76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40F26-6C4C-4138-AC08-563DB6D4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B7568-8129-45F6-9633-403748E4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B8937-050A-4173-BE52-C9EE52F3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8E050-6D20-4B1E-9660-E00A78FD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F19AE-684D-4DA5-B032-D6A4B22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58E07-AC53-4CCE-95C6-5637BC22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FB70-BCF1-4F9D-9996-7F3FE04C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764ED-4281-4CD7-AD70-8A026392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22AB0-4982-4E6B-94B9-A213B351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45EF3-C7F7-4A71-B6BC-38D9E27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0AEAF-17E2-4FF5-AA6F-9A099E5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BE117-DC72-4E41-BCD5-615FC64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1D078-4AB4-49F0-B4E9-F869485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AE36F-3B59-4E79-9F91-DEDDC59B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15C17-062B-41AD-9055-408115A2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0FB9C-BECC-4F26-B031-4B37032D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DE1B0-D3F9-4E81-B626-4AD0835F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7E01-2C39-4C26-A179-637E6239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DEC3B-069D-4173-9574-859DE7D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B658C-04C0-4580-849C-41E56383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132EE-D2C0-4597-B23B-CD2894D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F9D06-A491-40B8-95A0-D223124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87419-088B-4264-B2CC-7A9EC8FC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B87F6-B7B3-4804-B4BB-FE00FCA0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46BE5-76F4-4409-B7E9-E5B0B8B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43182-1608-404B-BC71-4E0397DC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1208E-F626-4016-B95F-909A8539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9741E-9489-4D0A-9269-F79A690F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AE88-FA48-4266-BA37-E8F511A3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2F71FE-1C85-44A0-BB87-B3AA159E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1FA97-A38E-40E3-9C45-CB674D04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6CFC2-8F4A-4CA0-8CB6-09EB756D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3542CA-F671-47A5-B9FA-25D849A3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0EECD2-E408-4345-AB66-00C5B996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F17A4F-878F-4607-AE94-6048A040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09736-710D-4CD0-99E3-91C116C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12A88-82D5-4A61-A05A-A874E61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1096A-52AD-4155-822F-81E6D30C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2D8F43-061B-4599-A788-2E3465F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6086-8017-4495-8333-AC977CE7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D2D99-7130-418D-8DBF-BF6A7D15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A7A9C-A5CA-4F8E-B14F-2FEB2C3C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D95BCC-15CE-4515-8EF1-81467F89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61FC-671C-4926-B5F1-3CAF0378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8BF1-D3E6-4A90-B9E7-34EF9AAB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6F6C-607C-4EC4-AEFD-E9196E3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5E46-EEBB-4A96-9C2B-FC07223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EC0-AABD-49AD-A825-7B581897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6241-51B2-4379-B05B-C31F4D63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18EF-8AAD-4A33-A589-C12CEBC4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3EE2-AC73-41F3-A0F1-86C3FEB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2FCD-E411-4CB8-A954-7EA7C67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32E4-A4B3-42D1-AA96-51BDC53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26C6-09A0-46E5-BDBF-8F43615E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E2A0-02C4-45D8-BCD9-CFFF135E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4A74-CFA6-463E-A60F-51BAC836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3C53-C009-4FCB-8E53-56716DC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BBAC-046F-4728-A884-2E31BBDE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4BA-3645-4925-BCFC-33B77C5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AB928-C2ED-41A3-B1BC-2D7DF12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FE74-18C2-45C4-8089-7161476E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F1C3-4C08-4055-A832-D6BA8A7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247F-59A2-4B93-8F8E-37DBCF66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51AA-DF5F-4855-A221-87EAE3E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408D-A75E-4414-BBCE-6848972F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4BD8-7283-42BF-9097-0F8D140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54FB-193E-4C62-A1C9-32F117A5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2C6A-E564-4C0A-BBBC-B34FB16A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CCDF-05D9-4B9C-B548-0AC2E62D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ED7-3DCE-454E-A04D-19097F83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D405-D447-464A-9A0A-95D736F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AE50-8C20-4140-B6D2-FC0B5C0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41A3-83F2-438D-9E23-43346ECB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D754-C00E-438D-AEE9-2DB6BB9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93B7-845C-4D78-9FBE-12DC751A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612F-9F57-41C3-A082-47AC107B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D884-4A1E-430A-95A8-1AE0D6E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B0E7-59D5-45B9-AA0C-0FBA147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3444-D0AC-4CC4-BCC0-F83D2482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269E-51E3-41DF-B451-7D4AD10A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9CE-2041-4FFC-A3FE-9409A9F1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EFA8-89DF-47DB-9B45-2268C4E3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63E1E-7151-4634-8C2A-52E3A768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C072-8C06-4A53-9CDF-C15F6F5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0537-316E-4C9D-A87E-1714AFE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B1E3-5823-4FE7-BE3A-DFEC2425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67E39-5532-4347-AC79-97EE3E58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A12B5-59E2-4369-B02C-14EDC9DC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BE58-2458-412A-B18F-7A9E9CC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2A3D-E26A-4201-9E4B-1E61D14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6060D-E97E-4A9E-ACED-47500CC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E29-46D5-48A3-9D97-4919F8E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ABFE-A8D8-4899-A21A-587B1DC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856CA-E45F-42D2-B642-A6C5E4B9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5F38-1966-4BF0-89A1-06DD152A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B4A05-0F8C-4D1F-BC22-1E143986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F4DBB-D09E-414C-8D33-1E59DFA3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3B2F1-BC1C-4397-B82B-E9F95023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1DE37-1870-44BC-8381-88B3D53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FECD-E7A3-4238-BCC5-CA4761D1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E17B-8088-4C22-8180-CD725DA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E275B-E71A-4BA8-9C64-6518052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FF0-70CE-4CDA-B4BE-526E4EE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14BB-1CB4-4D72-9769-38FD256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5869-6941-45B5-92A4-78E37554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766C-1EF6-444A-86E4-501F512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E5C9-D3E8-4AA3-9EF5-F1A03C38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B6D10-F48A-467E-BAC0-CC24CE99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C828-59BD-48A2-8C69-9858DE7D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F4789-F46D-4CF4-8627-70BEAFE7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F9EA4-324B-4CD7-85A1-88B718D5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51003-172F-466C-8005-9925BE67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FCCC-6826-40EE-86B2-497239BA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B4F-BE23-495C-AD45-4CC5416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FEC64-D466-4A0A-8C0A-2940423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D5536-37CE-4334-8FCB-E9E7532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F4AE-EBAE-4436-B979-933C3C5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88528-68BA-4B71-836A-64499E2F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EC3B-1546-4E24-8F92-20AE47F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E4F85-210A-4CA4-8152-C7F08B8D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D85D-2BB8-4325-A68D-9B8EC17A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005A2-4156-4440-A3D1-D2EF83B8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F2C0D-7D4A-4504-B955-C3BB009A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EF35C-4755-4ABB-A951-36317EE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7C4-6BBB-43E0-8BF8-C79E2C9436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50BB-9C33-46C3-8AFD-9A16EAB364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6BD2-53BF-407B-B7AA-21FB9D446C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3456-8B03-461A-9E1E-4E6828264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F649-7D86-4DE3-A880-9A36E5C95F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F9EE-3167-4B14-8160-3D526B84B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BC63-8892-46B3-B966-6CB7B0E513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29E-FD79-47E7-88F0-49847FD1CC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97CA-AAAA-487C-BABD-13EC0028FC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1C22-BC5E-4F20-A033-CD4EAD3B72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5D9B-18FB-42E0-B784-EC56EE1157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CDE-2509-4D2B-95AA-E644446E0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D47B-9538-47C7-BDF2-FC542B362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85D1-45CD-413B-995B-F256206E42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BC4C-1CAA-43DE-B7B0-A27153C483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297D-9071-4831-9477-835479832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2296-578F-4671-BD1E-A3670E50EF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4B29-D211-4F22-AF34-BB3BE3CF8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B80D-78FA-47DB-A45E-38EDF37F2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572D-57AF-463F-ABAD-E96C5D3F2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827A-98C6-4788-9493-526A851A7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DB0F-A2E4-4596-B43F-5A0B21F51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8F8-D8C8-4BE0-817B-C07B9A8EFF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AA91-B3D4-47A2-B9E2-169A40520F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DAED-AB57-465B-AAD0-B1E2C9265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AAE-DF05-4E37-A57B-06281E2E0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8DC-1890-4B73-A925-18099A78D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E2F-2CD0-4533-801D-909C3D149E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C067-40D5-4B94-A79A-9586E72A0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1BCC-3F56-4DC1-81D3-170BB01CC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0E4F-AD16-4DAA-A360-8BC94780B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73BE-FD3E-42DE-8BC6-55F361CFEA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85DA-5855-487D-990D-761B0DC8B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C99-9E4F-4E05-B6F9-3B41B0AD2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C49-0635-4CB9-9933-41C8EA2F2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5D54-83F4-454B-8D68-49EB58E322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A564-C6C6-4A1D-916B-AE1987BE7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AC15-5A7C-48F6-AE08-17D960639C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6F2-6BFA-48A6-8DE1-741A2E6C4B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2D1E-6D6B-4B33-A40C-C44D412A5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619200" y="2933640"/>
            <a:ext cx="7905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69633" descr=""/>
          <p:cNvPicPr/>
          <p:nvPr/>
        </p:nvPicPr>
        <p:blipFill>
          <a:blip r:embed="rId1"/>
          <a:stretch/>
        </p:blipFill>
        <p:spPr>
          <a:xfrm>
            <a:off x="690480" y="816120"/>
            <a:ext cx="7763040" cy="5781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951200" y="1009800"/>
            <a:ext cx="36036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321160" y="1009800"/>
            <a:ext cx="36036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859280" y="260820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796000" y="388944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4788000" y="5186520"/>
            <a:ext cx="72072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8609" descr=""/>
          <p:cNvPicPr/>
          <p:nvPr/>
        </p:nvPicPr>
        <p:blipFill>
          <a:blip r:embed="rId1"/>
          <a:stretch/>
        </p:blipFill>
        <p:spPr>
          <a:xfrm>
            <a:off x="219240" y="698400"/>
            <a:ext cx="8705520" cy="6115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826920" y="548784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26920" y="6280200"/>
            <a:ext cx="403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85760" y="890640"/>
            <a:ext cx="8772480" cy="50767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451640" y="538812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509760" y="2090880"/>
            <a:ext cx="8124480" cy="2676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7164360" y="2781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309600" y="723960"/>
            <a:ext cx="8524800" cy="5800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940360" y="6035760"/>
            <a:ext cx="20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7352" descr=""/>
          <p:cNvPicPr/>
          <p:nvPr/>
        </p:nvPicPr>
        <p:blipFill>
          <a:blip r:embed="rId1"/>
          <a:stretch/>
        </p:blipFill>
        <p:spPr>
          <a:xfrm>
            <a:off x="938160" y="2085840"/>
            <a:ext cx="7267680" cy="2686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411280" y="423540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300720" y="42498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6324" descr=""/>
          <p:cNvPicPr/>
          <p:nvPr/>
        </p:nvPicPr>
        <p:blipFill>
          <a:blip r:embed="rId1"/>
          <a:stretch/>
        </p:blipFill>
        <p:spPr>
          <a:xfrm>
            <a:off x="314280" y="1476360"/>
            <a:ext cx="8515440" cy="390528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632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048200" cy="24476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6326" descr=""/>
          <p:cNvPicPr/>
          <p:nvPr/>
        </p:nvPicPr>
        <p:blipFill>
          <a:blip r:embed="rId3"/>
          <a:stretch/>
        </p:blipFill>
        <p:spPr>
          <a:xfrm>
            <a:off x="5867280" y="2787480"/>
            <a:ext cx="2828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5300" descr=""/>
          <p:cNvPicPr/>
          <p:nvPr/>
        </p:nvPicPr>
        <p:blipFill>
          <a:blip r:embed="rId1"/>
          <a:stretch/>
        </p:blipFill>
        <p:spPr>
          <a:xfrm>
            <a:off x="1095480" y="2157480"/>
            <a:ext cx="6953040" cy="25430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5301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3247920" cy="22287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5302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2305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4276" descr=""/>
          <p:cNvPicPr/>
          <p:nvPr/>
        </p:nvPicPr>
        <p:blipFill>
          <a:blip r:embed="rId1"/>
          <a:stretch/>
        </p:blipFill>
        <p:spPr>
          <a:xfrm>
            <a:off x="247680" y="1343160"/>
            <a:ext cx="8648640" cy="417168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4277" descr=""/>
          <p:cNvPicPr/>
          <p:nvPr/>
        </p:nvPicPr>
        <p:blipFill>
          <a:blip r:embed="rId2"/>
          <a:stretch/>
        </p:blipFill>
        <p:spPr>
          <a:xfrm>
            <a:off x="930240" y="2322360"/>
            <a:ext cx="7962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2231" descr=""/>
          <p:cNvPicPr/>
          <p:nvPr/>
        </p:nvPicPr>
        <p:blipFill>
          <a:blip r:embed="rId1"/>
          <a:stretch/>
        </p:blipFill>
        <p:spPr>
          <a:xfrm>
            <a:off x="304920" y="1000080"/>
            <a:ext cx="8534160" cy="485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020000" y="2852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948360" y="371628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6948360" y="450864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877080" y="537372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6:2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